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D70-EE43-421B-BB62-2336501C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58A-27B0-4572-80A2-5020163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059-400B-4381-8A0B-81E566A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C92-95D7-4250-9827-52A29EEF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7C7-F625-4426-B3C9-21D125F6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3D93-D8D5-48C5-874C-E8B46BAF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143D-0699-4362-B06C-A9E8D852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CF44-3078-4A83-9694-3DB39C14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8880-1D4F-44F3-8B77-516CE3CB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B7A8-11F8-4657-81A9-B4C4BBF09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7E1E-5EB0-4230-86DB-DC52B61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6AD-9DF7-473B-9ABF-1BD42680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C853-93D8-4D34-B477-11C70A0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872-6129-4865-BC25-3187634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34C-7FB2-472F-86FF-02E86762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638-1A93-42F5-B12F-752B3F77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4E5A-4902-42AB-9C05-49D5D972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8E1-DDED-44B8-92AC-6FB44117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CCA-CFE9-42E1-9A48-C019764D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39F-A370-4A37-A40E-7B7DFDC1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D94-946B-4691-9450-CA9AA85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26E-16CC-41B8-AD76-B5F1A24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81B-9BE5-46B8-824C-0A336088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907-F7EB-41B2-9466-1A5059B7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2330-AC7E-4E68-BBAB-13DF9B840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C75B-A5D0-46E9-A61D-4A99A565E0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EPSACrLmA" TargetMode="External"/><Relationship Id="rId2" Type="http://schemas.openxmlformats.org/officeDocument/2006/relationships/hyperlink" Target="http://www.youtube.com/watch?v=MLvP6b0fwBQ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re of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he enviro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042920" y="566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03640" y="5845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op li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cyc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843280" y="19080"/>
            <a:ext cx="244944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961920" y="2689200"/>
            <a:ext cx="3764160" cy="284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4788000" y="2195640"/>
            <a:ext cx="3184560" cy="346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947880" y="1557360"/>
            <a:ext cx="7041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y t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542960" y="1484280"/>
            <a:ext cx="623412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795760" cy="19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179280" y="4297320"/>
            <a:ext cx="2952720" cy="220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5100480" y="4724280"/>
            <a:ext cx="26766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457520" cy="3381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d 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264636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163600" y="2060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643280" y="1741320"/>
            <a:ext cx="4046760" cy="2706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024000" cy="211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611280" y="3776760"/>
            <a:ext cx="1714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ff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rcRect l="0" t="0" r="0" b="7241"/>
          <a:stretch/>
        </p:blipFill>
        <p:spPr>
          <a:xfrm>
            <a:off x="5580000" y="4149720"/>
            <a:ext cx="33418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nd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10960" y="1557360"/>
            <a:ext cx="4197600" cy="314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140360" y="3637080"/>
            <a:ext cx="4608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don Riot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45040" cy="28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395960" y="1700280"/>
            <a:ext cx="420192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867280" y="4133880"/>
            <a:ext cx="2730600" cy="246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2916360" y="3297240"/>
            <a:ext cx="297000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5"/>
          <a:stretch/>
        </p:blipFill>
        <p:spPr>
          <a:xfrm>
            <a:off x="2916360" y="5145120"/>
            <a:ext cx="295092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6"/>
          <a:stretch/>
        </p:blipFill>
        <p:spPr>
          <a:xfrm>
            <a:off x="620640" y="4348080"/>
            <a:ext cx="2276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838680" y="141300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91788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92240" y="3732120"/>
            <a:ext cx="5532120" cy="310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7105680" y="4286160"/>
            <a:ext cx="176220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don Riot Community clean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tter P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52680" y="1785960"/>
            <a:ext cx="2896920" cy="368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427640" y="1779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427640" y="3627360"/>
            <a:ext cx="24667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9:54:02Z</dcterms:created>
  <dc:creator>RuthBentham</dc:creator>
  <dc:description/>
  <dc:language>en-US</dc:language>
  <cp:lastModifiedBy>alicia chisnall</cp:lastModifiedBy>
  <dcterms:modified xsi:type="dcterms:W3CDTF">2012-12-31T16:11:28Z</dcterms:modified>
  <cp:revision>30</cp:revision>
  <dc:subject/>
  <dc:title>Recyc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71033</vt:lpwstr>
  </property>
</Properties>
</file>